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2BB-BDA8-4545-8684-8CF12AE5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52A-2D4E-4280-92CC-7800B6C1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6A71F-8D96-4B93-821A-7886FA38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DC981B-2E85-47FA-B6D4-3CFF5871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86B7E-EC7E-4A05-B37A-8050E2BB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ADA45E-49EB-4A28-9448-95C63EE4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1DB5E-771D-4931-A2D1-1CE70511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04FDC-D48B-4526-BDE3-0DF3EA87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C5276-8612-4D75-97D4-60E0C048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A2864-5904-438C-B134-913916B1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707DE-486F-4226-B577-DBE0A489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F468F-CBCF-47E9-BA6B-89F4AE53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A47C-1CC6-408B-AFE9-F150B256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F8866-52B6-47F3-9363-12E9647C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57C3C-07D8-4C3E-A499-3757F6F2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0CBBA-2642-4F54-A74E-BFAC4441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B3681-9033-4FB6-A1FC-D913D346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57F97-F4BF-4FE2-B18A-CEBAD310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2ED88-E420-4FB1-9E48-C265C5DA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E75BF-B14F-4743-9656-4D700803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5101E-FE10-47C1-95C7-B568613C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310B5-4F38-4110-99FE-639D710E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82A51-D955-49F8-AF87-CE5A9080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D3B1-A10E-47F3-9E83-DC83536B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19680-57FE-4599-AD9D-6D6B6040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B4CA5-6DF7-480C-AF3D-DB9E1A81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6A7E5-8D8C-4B3F-8C54-9B069C24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B92F9-556C-464E-AFFF-443F9D2D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E32C5-C13E-4D1B-BD85-F7BE52BE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2A826-1B04-44E9-9462-366FB4E6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A618D-028D-4B75-93BB-C0C204DF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FE675-7B39-4AD1-9346-83BB36AA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24435-952C-4538-A441-C69EF2C0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4551D-AFB7-44ED-BBD7-7D5EF0CC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B728-6845-47AA-90BE-C2BE99FC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9F3A5-0DA9-47F9-A222-D33F2C14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5678B-718F-467F-B314-5491B355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AC3D9-3A8A-434E-B988-B136EC1A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F6258-8393-4421-9DF1-24E4ADB5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EB667-7027-4411-A740-196C4594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B17A3-BB02-4028-AF89-9D606688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72B62-044D-4CEB-B209-C2C50725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A7B95-C1BE-42B3-82EF-2783B283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93B57-9C50-4EB5-9010-84AE365A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0C263-F93D-488D-B90D-7C559A80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EF3C-AFD1-4EBF-991C-341CDC90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F7624-1B1D-49C1-A6BC-613CC4C4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742CE-2366-4F52-BB87-1BF544A4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76022-6A86-4ED0-A5F3-4D469F6B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798FA-F470-4044-A05D-41E6370C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414BB-FD56-425C-881E-23B67DF6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8870-F801-49E2-AAE5-2E461D12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FD8F-7403-44E6-90A4-E71F802E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6E8D-181E-433C-9CEB-BA97F2BE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2706-FE9F-4648-BEBB-943BBCD3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3D01-4ACD-4111-960A-E9429B4E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24E-AD9A-48D0-8C6B-E31E155A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BB75-B76D-4E59-BC4D-64085134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016E-A82E-444B-9AF0-61AC1E6D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0008-2EB1-42F6-8D8A-696CF5D7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DE8C-2623-487C-A1C7-9FABA584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6434-F880-4EED-B14A-ADD601F5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B4659-4636-4F29-8BA5-8A0B1AFB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02511-2B49-4F8F-9077-51FFCCE0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52918-CB72-476D-B269-B323EBA9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50A1D-AB1D-4AAA-99CF-B37D3726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B456C-880A-4148-8D64-B6F22023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ECE-E593-475A-82C6-C382B512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A6F73-F324-4295-9AE4-96878D38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E88E0-FDE8-4984-85E8-5AB56792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5A18C-FBB5-482A-B006-E8EEC395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C0BAB-66CC-47AB-9FEA-338E5E84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7D1A6-0C9F-42E6-B098-A6BD853F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D1AF9-DD59-4B4B-B35E-643C5AB6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5C45F-83DE-4D3F-9281-74B0AC9C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C34D1-9C77-43D1-8995-8246E194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52624-52B4-4445-9436-6ACED995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95408-B01C-44E8-96C8-FFCCC19C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E31-54F2-4762-A6A8-B793770B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97CA5-F277-4720-BD51-B6BDA35F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DA422-E222-4B17-B921-961862B8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CE230-548E-480F-A836-64E5E600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D8C19-120F-4080-878E-A9196483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BA843-82CE-467A-BFC6-AFD39B54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D5D11-F2D2-4A00-BF82-6D453B40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CC961-1201-4124-8B10-8E52F0B8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9DB9A-293E-4AD7-B1C9-37C09DFB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C97F0-5EBF-4CF6-9216-3BCC9B80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E4483-CC75-4D55-A54F-FF22DCB8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0AC-872C-4189-A5F3-451A8B0B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25AC9-A4D1-416D-9A22-419BE209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E5ED13-6967-40DF-9110-DDCBC258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03DF3-8FF4-4E0B-83F8-C66512C5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7112F-EB0F-47C3-9E93-8CDBFB26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69569B-7DFE-499A-B43E-A8D7BF4E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4E39B-9EF8-4AA0-9AEF-57184E5C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2B7179-FE62-40DC-8D9C-EEC1BAE7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F15D0-4EC4-402A-9A7C-FB04E3A5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30E44-2A09-4091-80EF-EC7227D5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6B499E-7BAA-4F46-BF83-151C8D4E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BAF4-FD3F-467D-A515-596D4D7D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1E458-A81E-4A29-9DFF-1EA879CC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F1963-E7ED-4AC2-B361-01AA229B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59239-E290-487B-970C-AEAF1891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731F9-EF07-457A-BBE5-B3EA4599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8A044-CB1C-438B-ACF0-FAA0858E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B1D2E-87B8-48CB-B3F2-3A2E44CB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1BC9E-ED0B-4BAB-9185-75CEF6BC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017DC-7594-4C5F-98CC-ACEF5D13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7261E-CCB4-40A0-8ACD-283DE92E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C9604-D4B3-444C-8F1A-EB9D7219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928-FA28-4972-9A2A-901F4510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27F23-DF7B-46F9-A188-AAE69394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60BBA-9482-49FE-9CEF-BB4D281A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0C11A-E861-401F-8464-6228556E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3F6ED-53B5-44A6-AC7C-1F44D7D5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D695B-9892-409D-B480-DF6FC60A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DAA75-49ED-4766-AC37-1CC68355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256FA-2A98-47C9-9CAF-6187981A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C8C82-CEB8-4D65-A42C-953F2A28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87A05-FCD9-46A5-BBEF-0DBAD0DE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61BA3-AFF0-4B64-AD78-03888B5E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D498-4C55-45EF-948D-6A52610E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0FD6D-E387-4C8D-ACDA-98A98DDF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426C3-06CF-468B-9096-1AC4F297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41918-E1FA-4318-B53C-EE1A4092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464C8-4EFD-4FFD-AE65-E0122D34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D78B5-FF5D-48B4-8F19-C9379A3D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F5356-5095-4B38-9CF8-3DBE371A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D37F1-E922-46E3-995E-AB47B78D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25F31-A5FA-4E33-99BF-BC0D058E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C686B-9555-4DBE-BCB5-5F6EC08F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8CFB0-52D5-4878-BC96-57171969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3B3-6A0A-4DAD-A798-F812D1E9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2A4DB-1F33-46BC-9506-AC7A8339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CF8E5-D326-4D8C-95D2-43CDD17B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6FE62-BAD1-4699-BE85-946F636E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C86A1-CA5C-4878-AE3F-D098B8F6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E416A-20F3-42D7-90C3-969EF471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95A3B-A364-4EEA-99C4-B13F1038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36C1E-1951-4FEF-85DD-4E63391D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ED219-7F48-49AA-AEF2-52F6FA41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B9770-2AE9-4850-AA21-640BCA7C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D0B3A-3292-4DAC-9513-8F355E54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3D4C-36EC-4CAC-BD36-2DC028352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9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EB10-4F3A-42F4-BF53-1B9D1AD22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4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4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dt" idx="3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ftr" idx="3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D749-4B35-4ABB-A568-15835D4C677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5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5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D851-9D53-47B8-82B0-E7E31012CFD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E751-5B79-4CF6-B715-3C550D13F1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ED17-8640-4004-8BF5-16C41DE2245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6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6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785A-FEA0-40F4-96AF-230690A63A3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0F3F-EC3C-45BD-97B5-4E8CFF93B6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8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8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D3D5-9EB5-484E-838F-04D61C8CCF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3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245A-8EF6-429C-9176-FEDC1A358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8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E65D-3889-4CF8-9BB5-51F586A0B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3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09DC-5820-4232-8B04-AF38E9C93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914400" y="2819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Sacrific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5ffff"/>
                </a:solidFill>
                <a:latin typeface="Tahoma"/>
              </a:rPr>
              <a:t>What were people called when they followed Satan?</a:t>
            </a:r>
            <a:endParaRPr b="0" lang="en-US" sz="3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zomb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wit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death ea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wiz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rrect answer i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witches (yes even boy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itchcraft was one of the greatest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. cri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. gi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. pres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. build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orrect answer i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. cri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t was against the law to not go to church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r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al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correct answer i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ru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st people were accused of witchcraft because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y were outca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they had their shirts uncheck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they never had di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y were under the age of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rrect answer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y were outca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hat happened to the people who were accused of witchcraft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y were sent out of t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they got 1,0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they were put on t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y had to work 4 days for some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rrect answer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they were put on t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was the punishment given for being a witch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they were hung or put in jai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. they were sent to sch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. they were put on a sh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. none of the abov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correct answer is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they were hung or put in jai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21:28:46Z</dcterms:created>
  <dc:creator>kat11088</dc:creator>
  <dc:description/>
  <dc:language>en-US</dc:language>
  <cp:lastModifiedBy>Mr A</cp:lastModifiedBy>
  <dcterms:modified xsi:type="dcterms:W3CDTF">2008-10-15T13:52:31Z</dcterms:modified>
  <cp:revision>3</cp:revision>
  <dc:subject/>
  <dc:title>The Sacrifice </dc:title>
</cp:coreProperties>
</file>